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2BCB-03EC-4B31-90AE-31758EEDF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852A-1FDE-4B33-A72B-BF2E9CF6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901C-B8F6-41DF-B7F7-E9893608C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BE6A-D42D-447F-B8AA-F781775D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3D61-2C64-476E-B5F3-77A68106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2D30-4356-432E-8FB4-49DADDDE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B7A4-3329-4CD9-80C2-7014E668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72E3-2B0D-4423-919B-6430ADEB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F534-A2DF-4216-A51C-CE163F4A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E078-97AD-4287-AD0D-D6564754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FB82-8714-4FE5-AFA6-00835227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7641-8C38-4055-84B4-A37A4BCA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4B38-11DC-4886-84F4-9D50D3A92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95280" y="76320"/>
            <a:ext cx="6782040" cy="6781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228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ELCOME TO THE START OF THE 2011 STAR ACADEMIC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YOU CAN EXP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RT/SD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ar to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B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ss Odyss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tination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RT/SDM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ford Diagnostic Reading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Diagnostic Mat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: Baseline to see exactly where you are 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est:      SDRT 21 June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MT 22 June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test: 26 July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ossible Out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      “</a:t>
            </a:r>
            <a:r>
              <a:rPr b="0" i="1" lang="en-US" sz="6000" spc="-1" strike="noStrike">
                <a:solidFill>
                  <a:srgbClr val="ff0000"/>
                </a:solidFill>
                <a:latin typeface="Arial"/>
              </a:rPr>
              <a:t>PROMOTION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191120" y="1905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745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0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e are we going to get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Forward – Cognitive learning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lastic “After the Bell” – Reading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ar to Success – Reading Program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tination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ss Odyssey – Reading/Math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ily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8:4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St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8:45 – 09:00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uncements/restroom 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9:00 – 10:00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:00 – 11:30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ar to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:30 – 12:10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ss Odyssey 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:15 – 12:45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:45 – 01:00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oom 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:00 – 01:30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:30 – 03:00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lastic “After the Bel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3:00 – 03:10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3:15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mis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room Guideli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Arrive to class on time dail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Students are to work in thei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mmer School STA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rses that begin with 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Bring a folder daily in which will be used to keep notes on activities or small group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so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ate and skill/activity is to be included at the top of each pag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Bring a writing utensil to class dail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Notify teacher when they have completed a cours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 Remain on Task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orting Responsi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Check their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rtfoli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each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ogi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review their scores for the previous da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Repeat any activities containing activity numbers from the previous day in which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did not achieve a passing score, 70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Request teacher help when working within the progra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Access backpack at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 of each clas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eacher review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Expec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Room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Respect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K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9T18:11:19Z</dcterms:created>
  <dc:creator>j</dc:creator>
  <dc:description/>
  <dc:language>en-US</dc:language>
  <cp:lastModifiedBy>j</cp:lastModifiedBy>
  <dcterms:modified xsi:type="dcterms:W3CDTF">2010-06-19T18:45:36Z</dcterms:modified>
  <cp:revision>3</cp:revision>
  <dc:subject/>
  <dc:title>Slide 1</dc:title>
</cp:coreProperties>
</file>